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A97E-C3E2-485E-8541-5C1350CF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7F88-C778-4CD9-B65A-EAA0FA5A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9134-2680-4771-B136-F56F0E7C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1B4-BE69-4ABA-AEE7-472598C5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289C-57B3-4A9C-ACD4-BDDA8B4A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68F0-2674-461A-B0DA-E6D608E1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8D2B-455C-42F8-B71B-CE091AFA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235F-2101-4CF2-82F2-F5AC4F31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E5B1-FACC-47C6-9DCB-F9805731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652F-5F66-4B57-90B9-94442065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D3CF-D7ED-45E9-9B50-AFD05181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D55C-FA22-471C-AE51-28A49F3B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2783-F9D8-4E43-ADE8-85F71EED2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DB: A Generic Insertional Mutagenesis Data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8002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aokang Pan and Lincoln 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d Spring Harbor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distribution" descr=""/>
          <p:cNvPicPr/>
          <p:nvPr/>
        </p:nvPicPr>
        <p:blipFill>
          <a:blip r:embed="rId1"/>
          <a:stretch/>
        </p:blipFill>
        <p:spPr>
          <a:xfrm>
            <a:off x="565200" y="771480"/>
            <a:ext cx="8013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IDB Future Enha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2742840"/>
            <a:ext cx="6781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s for phenotype and gene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 with gene ontology, plant ontology, trait ontology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chema for Phenotype and Gene Expres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4114800"/>
            <a:ext cx="12952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2819520"/>
            <a:ext cx="12952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4724280"/>
            <a:ext cx="144792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1676520"/>
            <a:ext cx="12952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638680"/>
            <a:ext cx="13716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5562720"/>
            <a:ext cx="121932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2286000"/>
            <a:ext cx="13716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2971800"/>
            <a:ext cx="13716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V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648320"/>
            <a:ext cx="12952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181480" y="4800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1814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790960" y="464832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3581280"/>
            <a:ext cx="11430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209680" y="2895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438280" y="4572000"/>
            <a:ext cx="22100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82880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047760" y="5181480"/>
            <a:ext cx="15238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143000" y="25909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048120" y="3429000"/>
            <a:ext cx="18288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2514240" y="2666520"/>
            <a:ext cx="2057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1600200"/>
            <a:ext cx="1600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ID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3733920"/>
            <a:ext cx="1219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666520" y="365760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8669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438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knowled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43828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 Spring Harbor Labor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Hong Liu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er postdoc in Stein L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ven Schmi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Scott C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olleag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6080" y="2438280"/>
            <a:ext cx="2975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Innes Centre, 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Mike Be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Jonathan Cla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technical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sequenced insertion sites for model organis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users with useful tools to search for insertions in gene of interest and to track progress of the multinational effort to find insertions in each ge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 the study of insertion site distribu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Mapping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057400"/>
            <a:ext cx="2971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nking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3200400"/>
            <a:ext cx="2971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U-BLAS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4267080"/>
            <a:ext cx="2971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top hit with sco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5410080"/>
            <a:ext cx="2971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nsertion site o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5715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410080"/>
            <a:ext cx="327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ed it to a clone &amp; g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4267080"/>
            <a:ext cx="32763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GR genome an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647960" y="48769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18480" y="32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3124080"/>
            <a:ext cx="3352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GR pseudo-chromoso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267080" y="35053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re Schem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38520" y="1984320"/>
            <a:ext cx="1585800" cy="711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22096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3124080"/>
            <a:ext cx="1363680" cy="584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2767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54840" y="3166920"/>
            <a:ext cx="143496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08880" y="3354480"/>
            <a:ext cx="45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8520" y="5294160"/>
            <a:ext cx="1511280" cy="532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62320" y="54561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38520" y="4289400"/>
            <a:ext cx="151128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51280" y="4497480"/>
            <a:ext cx="109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lankingS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7680" y="4289400"/>
            <a:ext cx="13590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89160" y="4476600"/>
            <a:ext cx="31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11160" y="447660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_cl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54840" y="4289400"/>
            <a:ext cx="143496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67600" y="4476600"/>
            <a:ext cx="31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83840" y="447660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_g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86000" y="2576520"/>
            <a:ext cx="1577520" cy="623160"/>
            <a:chOff x="2286000" y="2576520"/>
            <a:chExt cx="1577520" cy="623160"/>
          </a:xfrm>
        </p:grpSpPr>
        <p:sp>
          <p:nvSpPr>
            <p:cNvPr id="78" name=""/>
            <p:cNvSpPr/>
            <p:nvPr/>
          </p:nvSpPr>
          <p:spPr>
            <a:xfrm flipV="1">
              <a:off x="2286000" y="2606760"/>
              <a:ext cx="1496880" cy="59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54800" y="2576520"/>
              <a:ext cx="108720" cy="62640"/>
            </a:xfrm>
            <a:custGeom>
              <a:avLst/>
              <a:gdLst/>
              <a:ahLst/>
              <a:rect l="l" t="t" r="r" b="b"/>
              <a:pathLst>
                <a:path w="139" h="91">
                  <a:moveTo>
                    <a:pt x="64" y="91"/>
                  </a:moveTo>
                  <a:lnTo>
                    <a:pt x="139" y="0"/>
                  </a:lnTo>
                  <a:lnTo>
                    <a:pt x="0" y="8"/>
                  </a:lnTo>
                  <a:lnTo>
                    <a:pt x="6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676520" y="3733920"/>
            <a:ext cx="99720" cy="532440"/>
            <a:chOff x="1676520" y="3733920"/>
            <a:chExt cx="99720" cy="532440"/>
          </a:xfrm>
        </p:grpSpPr>
        <p:sp>
          <p:nvSpPr>
            <p:cNvPr id="81" name=""/>
            <p:cNvSpPr/>
            <p:nvPr/>
          </p:nvSpPr>
          <p:spPr>
            <a:xfrm flipV="1">
              <a:off x="1725480" y="3817440"/>
              <a:ext cx="1080" cy="44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76520" y="3733920"/>
              <a:ext cx="99720" cy="87480"/>
            </a:xfrm>
            <a:custGeom>
              <a:avLst/>
              <a:gdLst/>
              <a:ahLst/>
              <a:rect l="l" t="t" r="r" b="b"/>
              <a:pathLst>
                <a:path w="124" h="98">
                  <a:moveTo>
                    <a:pt x="124" y="98"/>
                  </a:moveTo>
                  <a:lnTo>
                    <a:pt x="61" y="0"/>
                  </a:lnTo>
                  <a:lnTo>
                    <a:pt x="0" y="98"/>
                  </a:lnTo>
                  <a:lnTo>
                    <a:pt x="124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506680" y="4546440"/>
            <a:ext cx="1131840" cy="78120"/>
            <a:chOff x="2506680" y="4546440"/>
            <a:chExt cx="1131840" cy="78120"/>
          </a:xfrm>
        </p:grpSpPr>
        <p:sp>
          <p:nvSpPr>
            <p:cNvPr id="84" name=""/>
            <p:cNvSpPr/>
            <p:nvPr/>
          </p:nvSpPr>
          <p:spPr>
            <a:xfrm>
              <a:off x="2506680" y="4584600"/>
              <a:ext cx="103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40240" y="4546440"/>
              <a:ext cx="98280" cy="78120"/>
            </a:xfrm>
            <a:custGeom>
              <a:avLst/>
              <a:gdLst/>
              <a:ahLst/>
              <a:rect l="l" t="t" r="r" b="b"/>
              <a:pathLst>
                <a:path w="123" h="97">
                  <a:moveTo>
                    <a:pt x="0" y="97"/>
                  </a:moveTo>
                  <a:lnTo>
                    <a:pt x="123" y="48"/>
                  </a:lnTo>
                  <a:lnTo>
                    <a:pt x="0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148360" y="4546440"/>
            <a:ext cx="906480" cy="78120"/>
            <a:chOff x="5148360" y="4546440"/>
            <a:chExt cx="906480" cy="78120"/>
          </a:xfrm>
        </p:grpSpPr>
        <p:sp>
          <p:nvSpPr>
            <p:cNvPr id="87" name=""/>
            <p:cNvSpPr/>
            <p:nvPr/>
          </p:nvSpPr>
          <p:spPr>
            <a:xfrm flipH="1">
              <a:off x="5241960" y="4584600"/>
              <a:ext cx="812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48360" y="4546440"/>
              <a:ext cx="98280" cy="78120"/>
            </a:xfrm>
            <a:custGeom>
              <a:avLst/>
              <a:gdLst/>
              <a:ahLst/>
              <a:rect l="l" t="t" r="r" b="b"/>
              <a:pathLst>
                <a:path w="125" h="97">
                  <a:moveTo>
                    <a:pt x="125" y="0"/>
                  </a:moveTo>
                  <a:lnTo>
                    <a:pt x="0" y="48"/>
                  </a:lnTo>
                  <a:lnTo>
                    <a:pt x="125" y="97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684840" y="3757680"/>
            <a:ext cx="98640" cy="531720"/>
            <a:chOff x="6684840" y="3757680"/>
            <a:chExt cx="98640" cy="531720"/>
          </a:xfrm>
        </p:grpSpPr>
        <p:sp>
          <p:nvSpPr>
            <p:cNvPr id="90" name=""/>
            <p:cNvSpPr/>
            <p:nvPr/>
          </p:nvSpPr>
          <p:spPr>
            <a:xfrm flipV="1">
              <a:off x="6734160" y="3830760"/>
              <a:ext cx="1440" cy="45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84840" y="3757680"/>
              <a:ext cx="98640" cy="77760"/>
            </a:xfrm>
            <a:custGeom>
              <a:avLst/>
              <a:gdLst/>
              <a:ahLst/>
              <a:rect l="l" t="t" r="r" b="b"/>
              <a:pathLst>
                <a:path w="125" h="97">
                  <a:moveTo>
                    <a:pt x="125" y="97"/>
                  </a:moveTo>
                  <a:lnTo>
                    <a:pt x="61" y="0"/>
                  </a:lnTo>
                  <a:lnTo>
                    <a:pt x="0" y="97"/>
                  </a:lnTo>
                  <a:lnTo>
                    <a:pt x="125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5978520" y="1984320"/>
            <a:ext cx="1511280" cy="65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2000" y="2209680"/>
            <a:ext cx="45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684840" y="2635200"/>
            <a:ext cx="98640" cy="531720"/>
            <a:chOff x="6684840" y="2635200"/>
            <a:chExt cx="98640" cy="531720"/>
          </a:xfrm>
        </p:grpSpPr>
        <p:sp>
          <p:nvSpPr>
            <p:cNvPr id="95" name=""/>
            <p:cNvSpPr/>
            <p:nvPr/>
          </p:nvSpPr>
          <p:spPr>
            <a:xfrm>
              <a:off x="6734160" y="263520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84840" y="3090960"/>
              <a:ext cx="98640" cy="75960"/>
            </a:xfrm>
            <a:custGeom>
              <a:avLst/>
              <a:gdLst/>
              <a:ahLst/>
              <a:rect l="l" t="t" r="r" b="b"/>
              <a:pathLst>
                <a:path w="125" h="96">
                  <a:moveTo>
                    <a:pt x="0" y="0"/>
                  </a:moveTo>
                  <a:lnTo>
                    <a:pt x="61" y="96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344840" y="4879800"/>
            <a:ext cx="98640" cy="414360"/>
            <a:chOff x="4344840" y="4879800"/>
            <a:chExt cx="98640" cy="414360"/>
          </a:xfrm>
        </p:grpSpPr>
        <p:sp>
          <p:nvSpPr>
            <p:cNvPr id="98" name=""/>
            <p:cNvSpPr/>
            <p:nvPr/>
          </p:nvSpPr>
          <p:spPr>
            <a:xfrm>
              <a:off x="4392720" y="4879800"/>
              <a:ext cx="144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44840" y="5216400"/>
              <a:ext cx="98640" cy="77760"/>
            </a:xfrm>
            <a:custGeom>
              <a:avLst/>
              <a:gdLst/>
              <a:ahLst/>
              <a:rect l="l" t="t" r="r" b="b"/>
              <a:pathLst>
                <a:path w="125" h="96">
                  <a:moveTo>
                    <a:pt x="0" y="0"/>
                  </a:moveTo>
                  <a:lnTo>
                    <a:pt x="62" y="96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506680" y="3424320"/>
            <a:ext cx="3548160" cy="77760"/>
            <a:chOff x="2506680" y="3424320"/>
            <a:chExt cx="3548160" cy="77760"/>
          </a:xfrm>
        </p:grpSpPr>
        <p:sp>
          <p:nvSpPr>
            <p:cNvPr id="101" name=""/>
            <p:cNvSpPr/>
            <p:nvPr/>
          </p:nvSpPr>
          <p:spPr>
            <a:xfrm flipH="1">
              <a:off x="2600280" y="3462480"/>
              <a:ext cx="345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06680" y="3424320"/>
              <a:ext cx="98280" cy="77760"/>
            </a:xfrm>
            <a:custGeom>
              <a:avLst/>
              <a:gdLst/>
              <a:ahLst/>
              <a:rect l="l" t="t" r="r" b="b"/>
              <a:pathLst>
                <a:path w="125" h="98">
                  <a:moveTo>
                    <a:pt x="125" y="0"/>
                  </a:moveTo>
                  <a:lnTo>
                    <a:pt x="0" y="49"/>
                  </a:lnTo>
                  <a:lnTo>
                    <a:pt x="125" y="98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997520" y="2576520"/>
            <a:ext cx="1282320" cy="649440"/>
            <a:chOff x="4997520" y="2576520"/>
            <a:chExt cx="1282320" cy="649440"/>
          </a:xfrm>
        </p:grpSpPr>
        <p:sp>
          <p:nvSpPr>
            <p:cNvPr id="104" name=""/>
            <p:cNvSpPr/>
            <p:nvPr/>
          </p:nvSpPr>
          <p:spPr>
            <a:xfrm flipH="1" flipV="1">
              <a:off x="5074920" y="2614680"/>
              <a:ext cx="120492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97520" y="2576520"/>
              <a:ext cx="109440" cy="74520"/>
            </a:xfrm>
            <a:custGeom>
              <a:avLst/>
              <a:gdLst/>
              <a:ahLst/>
              <a:rect l="l" t="t" r="r" b="b"/>
              <a:pathLst>
                <a:path w="138" h="95">
                  <a:moveTo>
                    <a:pt x="138" y="14"/>
                  </a:moveTo>
                  <a:lnTo>
                    <a:pt x="0" y="0"/>
                  </a:lnTo>
                  <a:lnTo>
                    <a:pt x="71" y="95"/>
                  </a:lnTo>
                  <a:lnTo>
                    <a:pt x="13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638520" y="3462480"/>
            <a:ext cx="1511280" cy="591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17880" y="3649680"/>
            <a:ext cx="31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79040" y="36496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35560" y="364968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44840" y="4052880"/>
            <a:ext cx="98640" cy="236520"/>
            <a:chOff x="4344840" y="4052880"/>
            <a:chExt cx="98640" cy="236520"/>
          </a:xfrm>
        </p:grpSpPr>
        <p:sp>
          <p:nvSpPr>
            <p:cNvPr id="111" name=""/>
            <p:cNvSpPr/>
            <p:nvPr/>
          </p:nvSpPr>
          <p:spPr>
            <a:xfrm>
              <a:off x="4392720" y="4052880"/>
              <a:ext cx="144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44840" y="4213080"/>
              <a:ext cx="98640" cy="76320"/>
            </a:xfrm>
            <a:custGeom>
              <a:avLst/>
              <a:gdLst/>
              <a:ahLst/>
              <a:rect l="l" t="t" r="r" b="b"/>
              <a:pathLst>
                <a:path w="125" h="97">
                  <a:moveTo>
                    <a:pt x="0" y="0"/>
                  </a:moveTo>
                  <a:lnTo>
                    <a:pt x="62" y="97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344840" y="2693880"/>
            <a:ext cx="98640" cy="768600"/>
            <a:chOff x="4344840" y="2693880"/>
            <a:chExt cx="98640" cy="768600"/>
          </a:xfrm>
        </p:grpSpPr>
        <p:sp>
          <p:nvSpPr>
            <p:cNvPr id="114" name=""/>
            <p:cNvSpPr/>
            <p:nvPr/>
          </p:nvSpPr>
          <p:spPr>
            <a:xfrm flipV="1">
              <a:off x="4392720" y="2766960"/>
              <a:ext cx="1440" cy="69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4840" y="2693880"/>
              <a:ext cx="98640" cy="77760"/>
            </a:xfrm>
            <a:custGeom>
              <a:avLst/>
              <a:gdLst/>
              <a:ahLst/>
              <a:rect l="l" t="t" r="r" b="b"/>
              <a:pathLst>
                <a:path w="125" h="98">
                  <a:moveTo>
                    <a:pt x="125" y="98"/>
                  </a:moveTo>
                  <a:lnTo>
                    <a:pt x="62" y="0"/>
                  </a:lnTo>
                  <a:lnTo>
                    <a:pt x="0" y="98"/>
                  </a:lnTo>
                  <a:lnTo>
                    <a:pt x="125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and Database Implement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7619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arsing, insertion mapping and data loading scripts coded in Per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interfaces use Perl-CGI scrip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implemented using MySQL, a relational DB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homepage1" descr=""/>
          <p:cNvPicPr/>
          <p:nvPr/>
        </p:nvPicPr>
        <p:blipFill>
          <a:blip r:embed="rId1"/>
          <a:stretch/>
        </p:blipFill>
        <p:spPr>
          <a:xfrm>
            <a:off x="507960" y="270000"/>
            <a:ext cx="8128080" cy="63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gbrowse" descr=""/>
          <p:cNvPicPr/>
          <p:nvPr/>
        </p:nvPicPr>
        <p:blipFill>
          <a:blip r:embed="rId1"/>
          <a:stretch/>
        </p:blipFill>
        <p:spPr>
          <a:xfrm>
            <a:off x="561960" y="777960"/>
            <a:ext cx="802008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rotein" descr=""/>
          <p:cNvPicPr/>
          <p:nvPr/>
        </p:nvPicPr>
        <p:blipFill>
          <a:blip r:embed="rId1"/>
          <a:stretch/>
        </p:blipFill>
        <p:spPr>
          <a:xfrm>
            <a:off x="571680" y="771480"/>
            <a:ext cx="8001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gbrowse" descr=""/>
          <p:cNvPicPr/>
          <p:nvPr/>
        </p:nvPicPr>
        <p:blipFill>
          <a:blip r:embed="rId1"/>
          <a:stretch/>
        </p:blipFill>
        <p:spPr>
          <a:xfrm>
            <a:off x="561960" y="777960"/>
            <a:ext cx="8020080" cy="5302080"/>
          </a:xfrm>
          <a:prstGeom prst="rect">
            <a:avLst/>
          </a:prstGeom>
          <a:ln w="0">
            <a:noFill/>
          </a:ln>
        </p:spPr>
      </p:pic>
      <p:pic>
        <p:nvPicPr>
          <p:cNvPr id="122" name="protein" descr=""/>
          <p:cNvPicPr/>
          <p:nvPr/>
        </p:nvPicPr>
        <p:blipFill>
          <a:blip r:embed="rId2"/>
          <a:stretch/>
        </p:blipFill>
        <p:spPr>
          <a:xfrm>
            <a:off x="571680" y="781200"/>
            <a:ext cx="8001000" cy="5295600"/>
          </a:xfrm>
          <a:prstGeom prst="rect">
            <a:avLst/>
          </a:prstGeom>
          <a:ln w="0">
            <a:noFill/>
          </a:ln>
        </p:spPr>
      </p:pic>
      <p:pic>
        <p:nvPicPr>
          <p:cNvPr id="123" name="gene" descr=""/>
          <p:cNvPicPr/>
          <p:nvPr/>
        </p:nvPicPr>
        <p:blipFill>
          <a:blip r:embed="rId3"/>
          <a:stretch/>
        </p:blipFill>
        <p:spPr>
          <a:xfrm>
            <a:off x="533520" y="762120"/>
            <a:ext cx="8270640" cy="54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8T00:05:12Z</dcterms:created>
  <dc:creator>pan</dc:creator>
  <dc:description/>
  <dc:language>en-US</dc:language>
  <cp:lastModifiedBy>pan</cp:lastModifiedBy>
  <dcterms:modified xsi:type="dcterms:W3CDTF">2003-05-02T14:39:05Z</dcterms:modified>
  <cp:revision>230</cp:revision>
  <dc:subject/>
  <dc:title>Comparative Analysis of Defective Spm, Dissociation and T-DNA Insertions in Arabidopsis Using ATIDB</dc:title>
</cp:coreProperties>
</file>